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0007-2AED-42E0-871E-869ECEF70EE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ésente la liste des mesures d’activation de la population active organisée selon deux dimensions : par type de mesures, qu’il faut entendre en termes d’accent sur les incitations ou sur les obligations; et par groupe cible, qu’il faut entendre par un accent sur les personnes handicapées ou sur les employeurs . Les exemples énumérés ne sont pas exhaustifs, mais visent à illustrer des types particuliers ainsi que la diversité des mesures utilisées en matière de politiques publiques et de prat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9C0C-C9E3-45AF-AB0D-CFA65BF9D585}" type="slidenum">
              <a:rPr b="0" lang="fr-CA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A4C-56D4-4339-B6A1-8B27A6E9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1CE-9D72-4ACD-BBDD-B8FC7246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6C7F-EA50-453E-8BF5-AB5B02A0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B739-C456-44BC-8081-295A98B0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4011-EC6B-4576-8DDB-7AE798F0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3029-507E-440C-B52B-46E76846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8858-CB82-45D2-96F8-57A4FC3A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D975-E263-4D23-989D-29619921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25B8-7404-4C03-BE43-E3882855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5532-FE9D-46D2-AF5F-0E04809A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FA8B-3FC2-4F76-96E6-A5503C69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593A-716B-4EFB-8E04-4B525FB3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CC72-568B-494A-9166-386DDBD7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AD40-28AE-4CEF-8D19-5D0DF57F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B794-FFC5-45FA-AD45-3803C221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2466-E929-4FE2-A15D-DD4A0997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3970-746F-46B1-807E-95580134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CAA83-AEDA-45B3-9E78-4FED3904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A60BA-5039-41EA-8716-BF32C8A1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F8E98-F09B-4FC9-9042-B876311C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6E3AC-BD9F-4E6E-8216-76578053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8F4E1-AA53-42EE-A6FF-EB2EBB29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DAD5-DE1D-4952-B449-C0665963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B8E93-EFC6-4985-A16C-BD6FADC8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60D8A-7CE8-4596-8846-4A9B834A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417FF-F439-4179-965D-70F41118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3CB5F-FC25-4F2E-90A5-16660B7F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41059-954F-472C-9864-38788A84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ADC11-485F-45EE-996C-EA95A8C9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1D37A-5D66-437B-8F74-B75652E7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63467-A31E-439D-8BF7-E88CCE6D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C65D5-9338-4B6B-B5F7-B0C7831E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31981-F95D-434E-8A44-026FD10D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2F6-29C6-4780-80DC-95C74C3F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B6B6E-4AAE-4777-A9E2-BAC4A318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B5EC8-47B4-423A-A7A3-E90DF77F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66AA9-7931-4B87-A2AF-8F4269DA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BDFC0-1156-4BCB-A11A-1EF7FB7E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EB0E6-3050-4A67-BEE4-10FD8B3D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0E4F2-C710-4ADB-81AE-F352F246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E97B7-4FA2-49F2-B73D-C1A538AF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0FCE1-5D65-4D1A-B7A3-4D6ECEDB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4B64B-9993-42B3-BE48-7ED3BBDE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4D200-D2C8-482C-82A4-BD837FA2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5E3-676B-4111-8642-2FD4E68F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CFCE3-2743-4921-81D3-802108EB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33005-3DBC-49E8-A486-29E24126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19EC8-9F44-493D-A409-86C28BCE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042B3-D34F-4792-8989-02AFB9E3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94F68-D1A8-43FE-BB08-1AE9CCE3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CC504-1062-4311-9F34-C58BCFE8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99B0D-437D-443C-90CD-B7A699C5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8770E-E341-4BD4-83EB-D5BF898A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46C60-54C0-496F-B1B2-A245E398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07AD8-D428-445E-A4C1-E654DEFB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B83-B600-4006-A09E-9AB0D0D0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64439-3EC5-448A-9129-EE4D94B3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8E2-4418-4F30-B300-7977643F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6962-9342-4FF5-8E0C-D2A98191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BAD7-04F3-47A9-A75A-7C4B6538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9F3D-1E0F-4725-A344-18CADBB48E67}" type="datetime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4AD0-C1F4-42EF-8A89-CB20345C49FD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BBCC-57FB-47E6-B658-F406F530898E}" type="datetime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49CF-7D01-4D90-8B41-31CBF8699952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5647-D1CD-4D79-976D-285158817B0F}" type="datetime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0670-E777-4FC7-8676-3C32818331C3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274A-5E2F-4C4D-9584-94CC9ECE2EE6}" type="datetime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AC48-3E16-4FA4-B574-DC1E02C503CF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C390-C81B-4684-A8D0-B004F8DCC137}" type="datetime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C422-E6B4-4549-ACE6-CB6E72CD4FEA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mprince@uvic.ca" TargetMode="External"/><Relationship Id="rId2" Type="http://schemas.openxmlformats.org/officeDocument/2006/relationships/hyperlink" Target="http://www.ccdonline.ca/fr/socialpolicy/poverty-citizenship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000" y="1341360"/>
            <a:ext cx="7848360" cy="192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d2533c"/>
                </a:solidFill>
                <a:latin typeface="Arial"/>
              </a:rPr>
              <a:t>PROMOUVOIR LA PARTICIPATION DES  PERSONNES HANDICAPÉES AU MARCHÉ DU TRAVAIL : PRATIQUES ET LEÇONS INTERNATIONALES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55640" y="3573360"/>
            <a:ext cx="640872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57576e"/>
                </a:solidFill>
                <a:latin typeface="Arial"/>
              </a:rPr>
              <a:t>Présentation au Savoir actif de Ressources humaines et Développement des compétences Canad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57576e"/>
                </a:solidFill>
                <a:latin typeface="Arial"/>
              </a:rPr>
              <a:t>Michael Prince, Ph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57576e"/>
                </a:solidFill>
                <a:latin typeface="Arial"/>
              </a:rPr>
              <a:t>Université de Victori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57576e"/>
                </a:solidFill>
                <a:latin typeface="Arial"/>
              </a:rPr>
              <a:t>12 janvier 2012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8" name="Picture 4" descr="uvic-bc"/>
          <p:cNvPicPr/>
          <p:nvPr/>
        </p:nvPicPr>
        <p:blipFill>
          <a:blip r:embed="rId1"/>
          <a:stretch/>
        </p:blipFill>
        <p:spPr>
          <a:xfrm>
            <a:off x="5651640" y="5013360"/>
            <a:ext cx="28573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Facilitateur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Accès à l’apprentissage, la formation et au financemen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Appréciation des compétences et de la productivité des personnes handicapé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Les réseaux d’amis, de confidents et de compagnon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Conseils personnalisés en matière d’emploi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Entrevues axées sur l’emploi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Mesures précoces de réadaptation professionnel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Incitatifs financiers visant à aider les personnes handicapées à couvrir les frais de subsistance associés à leur incapacité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Forums d’employeurs sur l’incapacité, financés et administrés par les groupes d’employeur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19E0-8BA4-475D-92D4-ED341B9C0F83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Facilitateur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292934"/>
                </a:solidFill>
                <a:latin typeface="Arial"/>
              </a:rPr>
              <a:t>Services et soutiens à l’emploi 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Personnel dévoué et dédié à l’offre de services aux clie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Activités de recherche d’emploi personnalisées et formation adaptée visant à promouvoir les capacités et les points forts de chaque clien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Ajustement du rythme auquel les personnes évoluent vers le maintien d’un emploi en fonction de leur profil d’employabilité et de leurs circonstances personnell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Reconnaissance et réponse aux besoins variables des personnes handicapé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Information et conseils, notamment retombées des prestations de revenu et autres servic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Accompagnement des clients lors des entrevues d’emploi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Correspondance des qualifications aux exigences d’emploi du marché du travail loca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AEC5-5E9B-4381-940B-835ACA3143DE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Facilitateur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6760" indent="-17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292934"/>
                </a:solidFill>
                <a:latin typeface="Arial"/>
              </a:rPr>
              <a:t>Soutiens et services aux employeu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Description détaillée des tâches de la part des employeur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Conseils et information sur les technologies d’assistance, la formation spécialisée, l’emploi subventionné et l’accommodement raisonnable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Gestion de l’incapacité, la surveillance des absences dues à une maladie et la planification du retour au travai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Soutien pratique et émotionnel continu tant pour les clients que pour les employeurs afin de les aider à résoudre les problèmes susceptibles de se présenter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Participation et aides actives de la part des organismes partenair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B11F-40E9-4690-AF68-5BA9C1834F39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Responsabilités des employeur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292934"/>
                </a:solidFill>
                <a:latin typeface="Arial"/>
              </a:rPr>
              <a:t>Les lois sur la protection de l’emploi </a:t>
            </a: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prévoient parfois des exemptions pour les petites et moyennes entreprises, et excluent les formes d’emploi hors normes telles que la main-d’œuvre occasionnelle et temporaire ou à temps partiel, soit autant de segments potentiellement importants pour le travail des personnes handicapé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Des </a:t>
            </a:r>
            <a:r>
              <a:rPr b="1" lang="fr-CA" sz="2000" spc="-1" strike="noStrike">
                <a:solidFill>
                  <a:srgbClr val="292934"/>
                </a:solidFill>
                <a:latin typeface="Arial"/>
              </a:rPr>
              <a:t>quotas d’emploi obligatoires </a:t>
            </a: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imposés aux employeurs qui sont tenus d’embaucher un certain nombre de personnes handicapées; une approche trop peu répandu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Les données sur les effets des </a:t>
            </a:r>
            <a:r>
              <a:rPr b="1" lang="fr-CA" sz="2000" spc="-1" strike="noStrike">
                <a:solidFill>
                  <a:srgbClr val="292934"/>
                </a:solidFill>
                <a:latin typeface="Arial"/>
              </a:rPr>
              <a:t>lois anti-discrimination </a:t>
            </a: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sur l’emploi des personnes handicapées ne sont pas concluantes (OCDE 2007 : 164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4C40-7035-40CA-96DF-8F26980D2BEA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Incitatifs financiers pour les employeur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560" y="1599840"/>
            <a:ext cx="856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292934"/>
                </a:solidFill>
                <a:latin typeface="Arial"/>
              </a:rPr>
              <a:t>Les instruments politiques les plus répandus à travers l’OCD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292934"/>
                </a:solidFill>
                <a:latin typeface="Arial"/>
              </a:rPr>
              <a:t>Réductions d’impôt</a:t>
            </a: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 associées aux primes de sécurité sociale (réductions des primes), </a:t>
            </a:r>
            <a:r>
              <a:rPr b="1" lang="fr-CA" sz="2000" spc="-1" strike="noStrike">
                <a:solidFill>
                  <a:srgbClr val="292934"/>
                </a:solidFill>
                <a:latin typeface="Arial"/>
              </a:rPr>
              <a:t>prêts aux entreprises</a:t>
            </a: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 et </a:t>
            </a:r>
            <a:r>
              <a:rPr b="1" lang="fr-CA" sz="2000" spc="-1" strike="noStrike">
                <a:solidFill>
                  <a:srgbClr val="292934"/>
                </a:solidFill>
                <a:latin typeface="Arial"/>
              </a:rPr>
              <a:t>subventions directes</a:t>
            </a: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 ou allègements fiscaux pour l’adaptation du milieu de travail permettant le recrutement et la rétention des personnes handicapé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292934"/>
                </a:solidFill>
                <a:latin typeface="Arial"/>
              </a:rPr>
              <a:t>Régimes de subventions salariales</a:t>
            </a: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 susceptibles d’aider les personnes handicapées à augmenter leur capital humain, à acquérir une expérience de travail et développer des compétences susceptibles d’être transférables à des postes ne bénéficiant pas de subvention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Le taux de souscription à ces programmes est souvent ba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L’impact des régimes d’emploi subventionnés est «flou» quant à la différence entre le recrutement et le maintien en poste des personnes handicapé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C8B1-33C8-443A-8E45-0E2CD6C75279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Relations de collaborat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390320"/>
            <a:ext cx="8229600" cy="50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292934"/>
                </a:solidFill>
                <a:latin typeface="Arial"/>
              </a:rPr>
              <a:t>Les forums d’employeurs </a:t>
            </a: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peuvent constituer des instruments efficaces, sur les plans régional et sectoriel, pour la participation des acteurs non gouvernementaux aux décisions concernant les mesures d’emploi actives 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2520" indent="-1803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rassembler les meilleurs employeurs et les groupes d’employeu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2520" indent="-1803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améliorer l’image publique de la question de l’emploi des personnes handicapé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2520" indent="-1803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établir un lien entre les employeurs et les responsables gouvernementaux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2520" indent="-1803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établir le contact entre les personnes handicapées et les employeu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2520" indent="-1803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générer des politiques et des pratiques inclusives en milieu de travai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9A3D-46D0-4DFB-B325-38AEDE4B7656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Occasions pour l’innovat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Collaborer afin de changer les attitudes négatives envers les personnes handicapées en ce qui a trait au travai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Subventionner l’établissement des petites entreprises par les personnes handicapées et le renforcement des entreprises social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Renforcer les incitatifs et l’appui aux employeu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Aider les fournisseurs de services d’emploi à faire une transition des ateliers protégés vers le marché du travail ouver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Consolider le soutien à l’emploi et les milieux de travail inclusif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Merci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292934"/>
                </a:solidFill>
                <a:latin typeface="Arial"/>
              </a:rPr>
              <a:t>Michael J. Pri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292934"/>
                </a:solidFill>
                <a:latin typeface="Arial"/>
              </a:rPr>
              <a:t>Professeur titulaire de la chaire Lansdowne en politique socia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292934"/>
                </a:solidFill>
                <a:latin typeface="Arial"/>
              </a:rPr>
              <a:t>Faculté de Développement social et humain</a:t>
            </a:r>
            <a:r>
              <a:rPr b="0" i="1" lang="en-CA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i="1" lang="en-CA" sz="2400" spc="-1" strike="noStrike">
                <a:solidFill>
                  <a:srgbClr val="29293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292934"/>
                </a:solidFill>
                <a:latin typeface="Arial"/>
              </a:rPr>
              <a:t>Université de Victori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mprince@uvic.c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i="1" lang="en-CA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i="1" lang="en-CA" sz="2400" spc="-1" strike="noStrike">
                <a:solidFill>
                  <a:srgbClr val="29293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292934"/>
                </a:solidFill>
                <a:latin typeface="Arial"/>
              </a:rPr>
              <a:t>ARUC Pauvreté invalidante et citoyenneté habilitant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ccdonline.ca/fr/socialpolicy/poverty-citizenshi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Nos discussions aujourd’hui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Quelles </a:t>
            </a:r>
            <a:r>
              <a:rPr b="1" lang="fr-CA" sz="2400" spc="-1" strike="noStrike">
                <a:solidFill>
                  <a:srgbClr val="292934"/>
                </a:solidFill>
                <a:latin typeface="Arial"/>
              </a:rPr>
              <a:t>politiques</a:t>
            </a: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 constituent des </a:t>
            </a:r>
            <a:r>
              <a:rPr b="1" lang="fr-CA" sz="2400" spc="-1" strike="noStrike">
                <a:solidFill>
                  <a:srgbClr val="292934"/>
                </a:solidFill>
                <a:latin typeface="Arial"/>
              </a:rPr>
              <a:t>obstacles</a:t>
            </a: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 à la participation des personnes handicapées au marché du travail?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Quelles politiques </a:t>
            </a:r>
            <a:r>
              <a:rPr b="1" lang="fr-CA" sz="2400" spc="-1" strike="noStrike">
                <a:solidFill>
                  <a:srgbClr val="292934"/>
                </a:solidFill>
                <a:latin typeface="Arial"/>
              </a:rPr>
              <a:t>facilitent </a:t>
            </a: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l’intégration des personnes handicapées au marché du travail?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Quelles </a:t>
            </a:r>
            <a:r>
              <a:rPr b="1" lang="fr-CA" sz="2400" spc="-1" strike="noStrike">
                <a:solidFill>
                  <a:srgbClr val="292934"/>
                </a:solidFill>
                <a:latin typeface="Arial"/>
              </a:rPr>
              <a:t>leçons</a:t>
            </a: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 peuvent être tirées des pratiques d’emploi prometteuses à l’</a:t>
            </a:r>
            <a:r>
              <a:rPr b="1" lang="fr-CA" sz="2400" spc="-1" strike="noStrike">
                <a:solidFill>
                  <a:srgbClr val="292934"/>
                </a:solidFill>
                <a:latin typeface="Arial"/>
              </a:rPr>
              <a:t>échelle internationale</a:t>
            </a: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24F9-BFEC-49DE-8473-FD57A14951E6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Échantillon international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932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d2533c"/>
                </a:solidFill>
                <a:latin typeface="Arial"/>
              </a:rPr>
              <a:t>États libéraux anglo-saxon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2438280"/>
            <a:ext cx="3932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Australie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Irlande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Nouvelle-Zélande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Royaume-Uni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États-Unis d’Amériqu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54160" y="1676160"/>
            <a:ext cx="3932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d2533c"/>
                </a:solidFill>
                <a:latin typeface="Arial"/>
              </a:rPr>
              <a:t>États scandinaves et européen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754160" y="2438280"/>
            <a:ext cx="3932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Danemark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Finlande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Pays-Ba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Norvège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Suèd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07BF-7076-49ED-8416-57008CB0171B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Sour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528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292934"/>
                </a:solidFill>
                <a:latin typeface="Arial"/>
              </a:rPr>
              <a:t>Michael J. Prince (2006) </a:t>
            </a:r>
            <a:r>
              <a:rPr b="1" lang="fr-CA" sz="1800" spc="-1" strike="noStrike">
                <a:solidFill>
                  <a:srgbClr val="292934"/>
                </a:solidFill>
                <a:latin typeface="Arial"/>
              </a:rPr>
              <a:t>Les pratiques exemplaires internationales en matière de prestation des services aux personnes handicapées : leçons apprises auprès d’autres pays et options pour Service Canad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292934"/>
                </a:solidFill>
                <a:latin typeface="Arial"/>
              </a:rPr>
              <a:t>Michael J. Prince (2007)</a:t>
            </a:r>
            <a:r>
              <a:rPr b="1" lang="fr-CA" sz="1800" spc="-1" strike="noStrike">
                <a:solidFill>
                  <a:srgbClr val="292934"/>
                </a:solidFill>
                <a:latin typeface="Arial"/>
              </a:rPr>
              <a:t> Labour Market Participation of Canadians with Disabilities: Trends, Obstacles, Facilitators, Policy Lessons and Options for Positive Outcome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92934"/>
                </a:solidFill>
                <a:latin typeface="Arial"/>
              </a:rPr>
              <a:t>Prince (2010) </a:t>
            </a:r>
            <a:r>
              <a:rPr b="1" lang="en-CA" sz="1800" spc="-1" strike="noStrike">
                <a:solidFill>
                  <a:srgbClr val="292934"/>
                </a:solidFill>
                <a:latin typeface="Arial"/>
              </a:rPr>
              <a:t>New Strategic Directions for Active Employment Measures for Persons with Disabilities: A Literature Review and Policy Research Agenda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92934"/>
                </a:solidFill>
                <a:latin typeface="Arial"/>
              </a:rPr>
              <a:t>OECD (2010) </a:t>
            </a:r>
            <a:r>
              <a:rPr b="1" lang="en-CA" sz="1800" spc="-1" strike="noStrike">
                <a:solidFill>
                  <a:srgbClr val="292934"/>
                </a:solidFill>
                <a:latin typeface="Arial"/>
              </a:rPr>
              <a:t>Sickness, Disability and Work: Breaking the Barrier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92934"/>
                </a:solidFill>
                <a:latin typeface="Arial"/>
              </a:rPr>
              <a:t>Prince (2011)</a:t>
            </a:r>
            <a:r>
              <a:rPr b="1" lang="en-CA" sz="1800" spc="-1" strike="noStrike">
                <a:solidFill>
                  <a:srgbClr val="292934"/>
                </a:solidFill>
                <a:latin typeface="Arial"/>
              </a:rPr>
              <a:t> Gaining, Maintaining and Returning to Employment:</a:t>
            </a:r>
            <a:r>
              <a:rPr b="1" i="1" lang="en-CA" sz="1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292934"/>
                </a:solidFill>
                <a:latin typeface="Arial"/>
              </a:rPr>
              <a:t>A Synthesis Report on Challenges and Successes of People With Disabilities in Canad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92934"/>
                </a:solidFill>
                <a:latin typeface="Arial"/>
              </a:rPr>
              <a:t>World Health Organization (2011) </a:t>
            </a:r>
            <a:r>
              <a:rPr b="1" lang="en-CA" sz="1800" spc="-1" strike="noStrike">
                <a:solidFill>
                  <a:srgbClr val="292934"/>
                </a:solidFill>
                <a:latin typeface="Arial"/>
              </a:rPr>
              <a:t>World Report on Disability</a:t>
            </a:r>
            <a:r>
              <a:rPr b="1" lang="en-CA" sz="20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0" name="Slide Number Placeholder 6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9F07-6F95-4DC3-AB4A-3460B99BE32B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d2533c"/>
                </a:solidFill>
                <a:latin typeface="Arial"/>
              </a:rPr>
              <a:t>Programmes actifs du marché du travail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292934"/>
                </a:solidFill>
                <a:uFillTx/>
                <a:latin typeface="Arial"/>
              </a:rPr>
              <a:t>Programmation active du marché du travail</a:t>
            </a: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6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services publics et administration des mesures d’emploi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formation et aides spéciales à l’apprentissag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mesures de rotation et de partage du travai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mesures incitatives à l’emploi pour le recrutement et le maintien en post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assistance et réadaptation en milieu de travai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création directe d’emplois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mesures incitatives en matière de travail indépendant et création d’entrepris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292934"/>
                </a:solidFill>
                <a:uFillTx/>
                <a:latin typeface="Arial"/>
              </a:rPr>
              <a:t>Mesures connexes</a:t>
            </a: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: Lois et règlements, prestations de revenu, compagnes de marketing socia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3" name="Slide Number Placeholder 6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54DB-64E4-48D0-B025-858C2D51A611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Tendances international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292934"/>
                </a:solidFill>
                <a:latin typeface="Arial"/>
              </a:rPr>
              <a:t>Le taux d’emploi des personnes handicapées dans la plupart des pays industrialisés se situe entre 30 % et 50 %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292934"/>
                </a:solidFill>
                <a:latin typeface="Arial"/>
              </a:rPr>
              <a:t>Le taux d’emploi des personnes handicapées a baissé entre le milieu des années 1990 et le milieu des années 2000 dans huit pays, il est demeuré stable dans huit autres et a augmenté dans sept pays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292934"/>
                </a:solidFill>
                <a:latin typeface="Arial"/>
              </a:rPr>
              <a:t>À l’instar de la Finlande et des Pays-Bas, le Canada a observé une augmentation modérée de la croissance annuelle moyenne du taux d’emploi des personnes handicapées, alors que l’Irlande, le Mexique, l’Espagne et le Royaume-Uni ont observé des taux de croissance relativement plus forts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292934"/>
                </a:solidFill>
                <a:latin typeface="Arial"/>
              </a:rPr>
              <a:t>Comparées aux personnes sans incapacité, celles ayant une incapacité ont tendance à occuper des emplois à court terme, à temps partiel, autonomes ou dans ‘l’économie informelle’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1A23-86D9-407B-A7BB-A702D7AF786D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d2533c"/>
                </a:solidFill>
                <a:latin typeface="Arial"/>
              </a:rPr>
              <a:t>Mesures d’activation liées à l’incapacité : types de politiques et groupes cibl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9640" y="1935000"/>
          <a:ext cx="7848360" cy="4518360"/>
        </p:xfrm>
        <a:graphic>
          <a:graphicData uri="http://schemas.openxmlformats.org/drawingml/2006/table">
            <a:tbl>
              <a:tblPr/>
              <a:tblGrid>
                <a:gridCol w="1385640"/>
                <a:gridCol w="2538360"/>
                <a:gridCol w="392436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nes handicapée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ur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2390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sures incitatives et soutien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Réadaptation professionnelle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rédits d’impôt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Aide au travail indépendant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artenariats en matière de création d’emploi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Développement des compétence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ounselling individuel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Services d’aide à l’emploi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Suppléments de revenu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Subventions salariale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imes d’assurance sociale assorties de réductions d’impôt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êts aux entreprises 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Subventions pour l’adaptation du milieu de travail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Sites d’information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Services de mentorat 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Formation et développement des entreprises 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artenariats sur le marché du travail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Fournisseurs de services d’emploi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onsultants en gestion de l’incapacité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194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ligations et sanction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Évaluation obligatoire des activité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Évaluations de la capacité de travail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estations limitées dans le temp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ours de formation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Exigences en matière de recherche d’emploi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Quotas ou cibles d’emploi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Législation en matière de protection de l’emploi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Normes d’accessibilité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Lois sur les droits de la personne et de l’anti-discrimination visant les personnes handicapée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Fixation de taux particuliers des primes d’assurance des employeurs en matière de prestation-maladie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</a:tbl>
          </a:graphicData>
        </a:graphic>
      </p:graphicFrame>
      <p:sp>
        <p:nvSpPr>
          <p:cNvPr id="249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1B01-6E6F-4056-B8E7-466B695FF4B4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Pratiques prometteus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Les pratiques exemplaires à l’échelle internationale sont manifestes dans trois approches stratégiques :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La réforme des procédures d’évaluation afin qu’elles portent davantage sur les capacités des personnes et leurs aptitudes à travailler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Changement des structures de prestation pour améliorer les incitations au travail, notamment l’offre d’incitations financières aux employeurs et/ou aux employés qui ont une capacité réduite partielle de travai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Inclusion des services de réadaptation et d’emploi dans l’aide à la recherche d’emploi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Transition des ateliers protégés au soutien à l’emploi et/ou aux entreprises social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9831-FA38-4D01-8EA5-BFBC72232D2C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d2533c"/>
                </a:solidFill>
                <a:latin typeface="Arial"/>
              </a:rPr>
              <a:t>Obstacles : une constance frappante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1599840"/>
            <a:ext cx="84358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2520" indent="-18252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292934"/>
                </a:solidFill>
                <a:latin typeface="Arial"/>
              </a:rPr>
              <a:t>Dans les systèmes des politiques et de prestation de services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2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Prédominance des modèles d’évaluation médica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Approche traditionnelle des services sociaux par de nombreuses aides communautaires, p. ex., programmes de jour séparé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Maintien des ateliers protégés et autres milieux de travail réservé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292934"/>
                </a:solidFill>
                <a:latin typeface="Arial"/>
              </a:rPr>
              <a:t>Dans les mesures d’activation de l’emploi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2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Absence d’aide personnelle visant à faciliter l’accè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Offre limitée de servic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Services d’accès à l’emploi sont parfois réduits pour certains groupes, notamment les nouveaux demandeurs comparés aux clients exista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DAC0-6A30-4492-8EDD-6485A5302F7A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22:19:09Z</dcterms:created>
  <dc:creator>Michae Jl Prince</dc:creator>
  <dc:description/>
  <dc:language>en-US</dc:language>
  <cp:lastModifiedBy>valerie.laflamme</cp:lastModifiedBy>
  <dcterms:modified xsi:type="dcterms:W3CDTF">2012-01-12T15:26:09Z</dcterms:modified>
  <cp:revision>62</cp:revision>
  <dc:subject/>
  <dc:title>Advancing the participation of people with disabilities in the labour market </dc:title>
</cp:coreProperties>
</file>